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2.png" ContentType="image/png"/>
  <Override PartName="/ppt/media/image20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C9AD-6372-4ADA-8D42-512491A5C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A3D1-4D5B-44F3-83E1-C9ED56CE3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solutes alone to one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761E-33FE-472C-917D-1734B9A12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solutes and pressure simultaneously; the two in correct amounts cancel each other, since solute concentration is inversely proportional to water potential and pressure is directly proportional to water potent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C888-CA11-4281-B731-02C586158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solutes and even more press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68E5-C4C3-40F9-8FAD-7DC84C4E6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solutes to one side, but even more negative pressure to the other; in this case the negative pressure on one side overrides what would otherwise be a tendency for water to move towards the sol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B1C6-EB90-4E16-A5D9-BCC7C9B55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taken in by roots, and is a by-product of PS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AF07-DCAA-4C1B-A30D-977D5B74E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06EF-60C9-4377-887A-DC26979BA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1B4B-C355-431F-8745-7F0BF46AE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A463-1B96-41B7-901A-89DC89BD7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A36F-DE36-4456-AD3C-BFE47C63A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5859-52FA-444D-8F4F-2F4E46C99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3B8B-2E86-4DCC-92BE-5F63FD61F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6682-DA41-4BF5-A429-9F9438F49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79BF-3F8B-4E1A-A4C3-39828477C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See the early part of the lecture for the details of how active transport creates membrane potentials that fuel the uptake of 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44F0-C90A-4923-9932-65D895304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1F96-C4A7-44EE-855C-26F221F15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433A-A316-4C05-BBDA-90A438529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4022-4C2C-45EE-8FA4-1E844D87B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6843-6D11-4CC6-8D70-B13B1DC30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58B9-0B65-48E5-BB6F-D7737D52D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01DE-C0FB-407A-8BCA-BF1B6EC19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5751-1DB5-4D1A-9ABF-8ABB7967E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34B1-2A05-44AD-A372-0C62E1D45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E94D-6B01-4B11-8337-2FB61ADB1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1860-3D48-4AE9-A6CE-936384827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2D63-4B5B-45DF-B1D0-4ADFA2AE1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0206-5DBC-4AE7-97FC-B09EECF59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6895-D3A8-4004-9F2D-A73CFD289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2142-25D3-4A93-951D-DE51C8FE1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8648-686C-4CED-95FD-8DB4BA39D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0D90-3D8A-4CF6-A40E-3A3DEE000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E5AE-D3E1-46A7-9663-82EAFED3B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6A18-862E-456D-A563-8272A4E36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81EC-1F98-49E2-B612-7E852D534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2C99-1403-4757-8074-E3E00F89A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DEB3-DE20-4375-AB09-9251C637B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159D-0227-4965-AA2F-748BF32BE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474C-A166-4934-BEFE-83C2BC8D0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6888-C3C6-4893-82A1-8BC7B4B71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FF54-F33A-4137-A853-9217385D1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6465-4283-4BA0-BAB2-22B8E446F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6E08-4F58-44D3-B05D-B3DEEA83D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23ED-A089-46E4-BC93-CED555FA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3F53-8A77-4766-AEC5-675C0E16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9730-FAD0-4F02-BB2C-9BFDC125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8448-9AE8-4A05-B671-1D79CA5D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5ECF-8B2F-423D-A6F5-FA2E0A89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830F-95AD-40CC-A713-C2D1A100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B3E6-A354-4701-A5DF-ED2A49DF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74C9-7930-4E85-927F-EB2FEBF4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C473-4EDB-46E1-BEC3-4FB794D7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2EB6-58C7-4739-B069-6B834DFE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723E-67F9-406E-9FA5-3426215A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41FF-12BB-4420-B007-EB6C453F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eb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9A56-94BE-40B6-A752-A8FEECFAE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320" y="1868040"/>
            <a:ext cx="2971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 Black"/>
              </a:rPr>
              <a:t>Transport in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2004_gallery_stem_diagram"/>
          <p:cNvPicPr/>
          <p:nvPr/>
        </p:nvPicPr>
        <p:blipFill>
          <a:blip r:embed="rId1"/>
          <a:stretch/>
        </p:blipFill>
        <p:spPr>
          <a:xfrm>
            <a:off x="3673440" y="1687680"/>
            <a:ext cx="50738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0"/>
          <p:cNvSpPr/>
          <p:nvPr/>
        </p:nvSpPr>
        <p:spPr>
          <a:xfrm>
            <a:off x="0" y="1797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K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ions pass through transport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"/>
          <p:cNvPicPr/>
          <p:nvPr/>
        </p:nvPicPr>
        <p:blipFill>
          <a:blip r:embed="rId1"/>
          <a:srcRect l="0" t="47156" r="50002" b="11608"/>
          <a:stretch/>
        </p:blipFill>
        <p:spPr>
          <a:xfrm>
            <a:off x="533520" y="2895480"/>
            <a:ext cx="6578640" cy="2862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0" y="730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membrane potential provides the energy to uptake some minerals,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e.g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., K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609480" y="5410080"/>
            <a:ext cx="2133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7169400" y="380844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5911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coupled ions pass through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[co-]transport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0" y="7300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membrane potential provides the energy for  cotransport of ions up their concentration gradients, as H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ions move down thei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rcRect l="50385" t="1030" r="24" b="51751"/>
          <a:stretch/>
        </p:blipFill>
        <p:spPr>
          <a:xfrm>
            <a:off x="1066680" y="2895480"/>
            <a:ext cx="5639040" cy="2853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1143000" y="5410080"/>
            <a:ext cx="2133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7169400" y="380844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0" y="7300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membrane potential provides the energy for cotransport of some neutral molecules (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e.g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., sugar) up their concentration gradients,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as H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ions move down thei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143000" y="5410080"/>
            <a:ext cx="2133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"/>
          <p:cNvPicPr/>
          <p:nvPr/>
        </p:nvPicPr>
        <p:blipFill>
          <a:blip r:embed="rId1"/>
          <a:srcRect l="50385" t="48142" r="24" b="3000"/>
          <a:stretch/>
        </p:blipFill>
        <p:spPr>
          <a:xfrm>
            <a:off x="1219320" y="2895480"/>
            <a:ext cx="5410080" cy="28306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9"/>
          <p:cNvSpPr/>
          <p:nvPr/>
        </p:nvSpPr>
        <p:spPr>
          <a:xfrm>
            <a:off x="7169400" y="380844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0" y="838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smosis is diffusion of water across a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0" y="147636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o predict the movement of water across a membrane alone (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e.g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., an animal cell), it is sufficient to know whether the inside solute concentration is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&lt; or &gt; the outside solute concen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0" y="34574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o predict the movement of water across a membrane plus cell wall (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e.g.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, a plant cell), we must know both the solute concentration difference and the pressure differ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0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0" y="838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ater potential is a combined measure of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olute concentration an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0" y="190332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Arial"/>
                <a:ea typeface="Arial"/>
              </a:rPr>
              <a:t>Ψ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(psi) </a:t>
            </a:r>
            <a:r>
              <a:rPr b="1" lang="en-US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measured in MPa (megapascals;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1 MPa ≈ 10 atmosphe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0" y="3200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Pure water in an open container: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l-GR" sz="3600" spc="-1" strike="noStrike">
                <a:solidFill>
                  <a:srgbClr val="333399"/>
                </a:solidFill>
                <a:latin typeface="Arial"/>
                <a:ea typeface="Arial"/>
              </a:rPr>
              <a:t>Ψ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= 0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0" y="4052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Solutes reduce the value of </a:t>
            </a: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Ψ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0" y="4844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Pressure increases the value of </a:t>
            </a: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Ψ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0" y="560700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Negative pressure (tension) decreases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the value of </a:t>
            </a: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Ψ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0" y="790560"/>
            <a:ext cx="914400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Water potential = pressure potential +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solute (osmotic)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Arial"/>
                <a:ea typeface="Arial"/>
              </a:rPr>
              <a:t>Ψ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= </a:t>
            </a: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Ψ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l-G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Ψ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496080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Water will always move across a membrane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rom higher to lower </a:t>
            </a: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Ψ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0" y="324792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Ψ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can be positive, 0, or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Ψ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is always 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0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rcRect l="0" t="0" r="0" b="2998"/>
          <a:stretch/>
        </p:blipFill>
        <p:spPr>
          <a:xfrm>
            <a:off x="4114800" y="76320"/>
            <a:ext cx="4943520" cy="6705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52280" y="8064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t’s consider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 exam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4114800" y="3429000"/>
            <a:ext cx="5105520" cy="3352680"/>
          </a:xfrm>
          <a:prstGeom prst="rect">
            <a:avLst/>
          </a:prstGeom>
          <a:solidFill>
            <a:srgbClr val="faebd7"/>
          </a:solidFill>
          <a:ln w="9360">
            <a:solidFill>
              <a:srgbClr val="faeb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6585120" y="76320"/>
            <a:ext cx="2590560" cy="3352680"/>
          </a:xfrm>
          <a:prstGeom prst="rect">
            <a:avLst/>
          </a:prstGeom>
          <a:solidFill>
            <a:srgbClr val="faebd7"/>
          </a:solidFill>
          <a:ln w="9360">
            <a:solidFill>
              <a:srgbClr val="faeb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2522880" y="6153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rcRect l="0" t="0" r="0" b="2998"/>
          <a:stretch/>
        </p:blipFill>
        <p:spPr>
          <a:xfrm>
            <a:off x="4114800" y="76320"/>
            <a:ext cx="4943520" cy="6705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52280" y="8064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t’s consider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 exam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4114800" y="3429000"/>
            <a:ext cx="5105520" cy="3352680"/>
          </a:xfrm>
          <a:prstGeom prst="rect">
            <a:avLst/>
          </a:prstGeom>
          <a:solidFill>
            <a:srgbClr val="faebd7"/>
          </a:solidFill>
          <a:ln w="9360">
            <a:solidFill>
              <a:srgbClr val="faeb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522880" y="6153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0" t="0" r="0" b="2998"/>
          <a:stretch/>
        </p:blipFill>
        <p:spPr>
          <a:xfrm>
            <a:off x="4114800" y="76320"/>
            <a:ext cx="4943520" cy="67053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52280" y="8064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t’s consider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 exam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6573960" y="3429000"/>
            <a:ext cx="2646360" cy="3352680"/>
          </a:xfrm>
          <a:prstGeom prst="rect">
            <a:avLst/>
          </a:prstGeom>
          <a:solidFill>
            <a:srgbClr val="faebd7"/>
          </a:solidFill>
          <a:ln w="9360">
            <a:solidFill>
              <a:srgbClr val="faeb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2522880" y="6153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rcRect l="0" t="0" r="0" b="2998"/>
          <a:stretch/>
        </p:blipFill>
        <p:spPr>
          <a:xfrm>
            <a:off x="4114800" y="76320"/>
            <a:ext cx="4943520" cy="6705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52280" y="8064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t’s consider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 exam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522880" y="6153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rcRect l="0" t="0" r="0" b="4000"/>
          <a:stretch/>
        </p:blipFill>
        <p:spPr>
          <a:xfrm>
            <a:off x="4095720" y="533520"/>
            <a:ext cx="4896000" cy="5486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9"/>
          <p:cNvSpPr/>
          <p:nvPr/>
        </p:nvSpPr>
        <p:spPr>
          <a:xfrm>
            <a:off x="7459920" y="6261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55160" y="152280"/>
            <a:ext cx="26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lants requi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546120" y="91440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536400" y="153828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545400" y="2909880"/>
            <a:ext cx="57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546120" y="222408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533520" y="3562200"/>
            <a:ext cx="548640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in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acronutr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besides C, H,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, K, Mg, N, P,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icro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, Cl, Cu, Fe, Mn, Mo, Ni, Z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1676520" y="914400"/>
            <a:ext cx="380880" cy="1905120"/>
          </a:xfrm>
          <a:custGeom>
            <a:avLst/>
            <a:gdLst>
              <a:gd name="textAreaLeft" fmla="*/ 0 w 380880"/>
              <a:gd name="textAreaRight" fmla="*/ 137520 w 3808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2136240" y="161460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52280" y="8064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t’s consider real ce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rcRect l="0" t="0" r="0" b="51005"/>
          <a:stretch/>
        </p:blipFill>
        <p:spPr>
          <a:xfrm>
            <a:off x="4678200" y="246240"/>
            <a:ext cx="4343400" cy="32652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142920" y="1893960"/>
            <a:ext cx="434160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laccid ce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Ψ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l-G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4740120" y="284040"/>
            <a:ext cx="192276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5815080" y="1405080"/>
            <a:ext cx="3160800" cy="20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2522880" y="6153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52280" y="8064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t’s consider real ce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rcRect l="0" t="0" r="0" b="51005"/>
          <a:stretch/>
        </p:blipFill>
        <p:spPr>
          <a:xfrm>
            <a:off x="4678200" y="246240"/>
            <a:ext cx="4343400" cy="32652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142920" y="1893960"/>
            <a:ext cx="434160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laccid ce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Ψ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l-G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7397640" y="1405080"/>
            <a:ext cx="1578240" cy="162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2522880" y="6153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52280" y="8064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t’s consider real ce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rcRect l="0" t="0" r="0" b="51005"/>
          <a:stretch/>
        </p:blipFill>
        <p:spPr>
          <a:xfrm>
            <a:off x="4678200" y="246240"/>
            <a:ext cx="4343400" cy="32652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142920" y="1893960"/>
            <a:ext cx="434160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laccid ce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Ψ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l-G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44360" y="3173400"/>
            <a:ext cx="434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f a cell loses water to the environment, it plasmoly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2522880" y="6153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52280" y="8064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t’s consider real ce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rcRect l="0" t="0" r="0" b="51005"/>
          <a:stretch/>
        </p:blipFill>
        <p:spPr>
          <a:xfrm>
            <a:off x="4678200" y="246240"/>
            <a:ext cx="4343400" cy="3265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2"/>
          <a:srcRect l="0" t="50003" r="0" b="5002"/>
          <a:stretch/>
        </p:blipFill>
        <p:spPr>
          <a:xfrm>
            <a:off x="4675320" y="3500280"/>
            <a:ext cx="4352760" cy="30052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142920" y="1893960"/>
            <a:ext cx="434160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laccid ce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Ψ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l-G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4700520" y="3467160"/>
            <a:ext cx="1946520" cy="31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5775480" y="4587840"/>
            <a:ext cx="3222360" cy="20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2522880" y="6153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52280" y="8064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t’s consider real ce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rcRect l="0" t="0" r="0" b="51005"/>
          <a:stretch/>
        </p:blipFill>
        <p:spPr>
          <a:xfrm>
            <a:off x="4678200" y="246240"/>
            <a:ext cx="4343400" cy="3265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"/>
          <p:cNvPicPr/>
          <p:nvPr/>
        </p:nvPicPr>
        <p:blipFill>
          <a:blip r:embed="rId2"/>
          <a:srcRect l="0" t="50003" r="0" b="5002"/>
          <a:stretch/>
        </p:blipFill>
        <p:spPr>
          <a:xfrm>
            <a:off x="4675320" y="3500280"/>
            <a:ext cx="4352760" cy="30052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142920" y="1893960"/>
            <a:ext cx="434160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laccid ce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Ψ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l-G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7389720" y="4587840"/>
            <a:ext cx="1608120" cy="15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2522880" y="6153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52280" y="8064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t’s consider real ce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1"/>
          <a:srcRect l="0" t="0" r="0" b="51005"/>
          <a:stretch/>
        </p:blipFill>
        <p:spPr>
          <a:xfrm>
            <a:off x="4678200" y="246240"/>
            <a:ext cx="4343400" cy="3265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2"/>
          <a:srcRect l="0" t="50003" r="0" b="5002"/>
          <a:stretch/>
        </p:blipFill>
        <p:spPr>
          <a:xfrm>
            <a:off x="4675320" y="3500280"/>
            <a:ext cx="4352760" cy="30052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7"/>
          <p:cNvSpPr/>
          <p:nvPr/>
        </p:nvSpPr>
        <p:spPr>
          <a:xfrm>
            <a:off x="142920" y="1893960"/>
            <a:ext cx="434160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laccid ce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Ψ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l-G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144360" y="3173400"/>
            <a:ext cx="434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f a cell gains water from the environment, it becomes turg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146160" y="4754520"/>
            <a:ext cx="459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urgor = pressure that keeps cell membrane pressed against cell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2522880" y="6153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52280" y="8064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t’s consider real ce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rcRect l="0" t="0" r="0" b="51005"/>
          <a:stretch/>
        </p:blipFill>
        <p:spPr>
          <a:xfrm>
            <a:off x="4678200" y="246240"/>
            <a:ext cx="4343400" cy="3265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2"/>
          <a:srcRect l="0" t="50003" r="0" b="5002"/>
          <a:stretch/>
        </p:blipFill>
        <p:spPr>
          <a:xfrm>
            <a:off x="4675320" y="3500280"/>
            <a:ext cx="4352760" cy="30052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142920" y="1893960"/>
            <a:ext cx="434160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laccid ce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3399"/>
                </a:solidFill>
                <a:latin typeface="Arial"/>
              </a:rPr>
              <a:t>Ψ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r>
              <a:rPr b="1" lang="el-G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144360" y="3173400"/>
            <a:ext cx="434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f a cell gains water from the environment, it becomes turg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46160" y="4754520"/>
            <a:ext cx="4341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quaporins are transport proteins that form channels fo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2522880" y="6153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52280" y="152280"/>
            <a:ext cx="873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Armed with this 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roots absorb water and miner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roots absorb water and miner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rcRect l="0" t="0" r="0" b="4000"/>
          <a:stretch/>
        </p:blipFill>
        <p:spPr>
          <a:xfrm>
            <a:off x="965160" y="1038240"/>
            <a:ext cx="7772400" cy="57913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4195800" y="1052640"/>
            <a:ext cx="4479840" cy="28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7364520" y="2475000"/>
            <a:ext cx="968400" cy="28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1027080" y="1076400"/>
            <a:ext cx="767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olutes pass into roots from the dilute soil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984600" y="633888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roots absorb water and miner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rcRect l="0" t="0" r="0" b="4000"/>
          <a:stretch/>
        </p:blipFill>
        <p:spPr>
          <a:xfrm>
            <a:off x="965160" y="1038240"/>
            <a:ext cx="7772400" cy="579132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5"/>
          <p:cNvSpPr/>
          <p:nvPr/>
        </p:nvSpPr>
        <p:spPr>
          <a:xfrm>
            <a:off x="4195800" y="1052640"/>
            <a:ext cx="4479840" cy="28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7364520" y="2475000"/>
            <a:ext cx="968400" cy="28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027080" y="1076400"/>
            <a:ext cx="767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ymplastic rout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3753000" y="1514520"/>
            <a:ext cx="4908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tive transport occurs through proton pumps, that set up membrane potentials, that drive the uptake of mineral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984600" y="633888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0" t="0" r="0" b="4000"/>
          <a:stretch/>
        </p:blipFill>
        <p:spPr>
          <a:xfrm>
            <a:off x="4095720" y="533520"/>
            <a:ext cx="4896000" cy="5486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152280" y="152280"/>
            <a:ext cx="381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ere we explore how these substances are transported within pla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152280" y="2314440"/>
            <a:ext cx="381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ut first we need some more 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7459920" y="6261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roots absorb water and miner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rcRect l="0" t="0" r="0" b="4000"/>
          <a:stretch/>
        </p:blipFill>
        <p:spPr>
          <a:xfrm>
            <a:off x="965160" y="1038240"/>
            <a:ext cx="7772400" cy="57913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4195800" y="1052640"/>
            <a:ext cx="4479840" cy="28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7364520" y="2475000"/>
            <a:ext cx="968400" cy="28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1027080" y="1076400"/>
            <a:ext cx="767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oplastic rout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3753000" y="1514520"/>
            <a:ext cx="4908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ome water and dissolved minerals passively diffuse into cell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984600" y="633888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roots absorb water and miner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rcRect l="0" t="0" r="0" b="4000"/>
          <a:stretch/>
        </p:blipFill>
        <p:spPr>
          <a:xfrm>
            <a:off x="965160" y="1038240"/>
            <a:ext cx="7772400" cy="57913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4195800" y="1052640"/>
            <a:ext cx="4479840" cy="28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7364520" y="2475000"/>
            <a:ext cx="968400" cy="28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1027080" y="1076400"/>
            <a:ext cx="7674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olutes diffuse through the cells (or cell walls) of the epidermis and cortex (the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                       innermost layer of which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                       is the endoderm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984600" y="633888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roots absorb water and miner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rcRect l="0" t="0" r="0" b="4000"/>
          <a:stretch/>
        </p:blipFill>
        <p:spPr>
          <a:xfrm>
            <a:off x="965160" y="1038240"/>
            <a:ext cx="7772400" cy="57913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5"/>
          <p:cNvSpPr/>
          <p:nvPr/>
        </p:nvSpPr>
        <p:spPr>
          <a:xfrm>
            <a:off x="4195800" y="1052640"/>
            <a:ext cx="4479840" cy="28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7364520" y="2475000"/>
            <a:ext cx="968400" cy="28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971640" y="1076400"/>
            <a:ext cx="78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t the endodermis, only the symplastic route is accessible, owing to the Casparian str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3554280" y="2046240"/>
            <a:ext cx="5307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hapt. 35 observed that the endodermis regulates the passage of substances into the vascular s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984600" y="633888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roots absorb water and miner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rcRect l="0" t="0" r="0" b="4000"/>
          <a:stretch/>
        </p:blipFill>
        <p:spPr>
          <a:xfrm>
            <a:off x="965160" y="1038240"/>
            <a:ext cx="7772400" cy="57913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5"/>
          <p:cNvSpPr/>
          <p:nvPr/>
        </p:nvSpPr>
        <p:spPr>
          <a:xfrm>
            <a:off x="4195800" y="1052640"/>
            <a:ext cx="4479840" cy="28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7364520" y="2475000"/>
            <a:ext cx="968400" cy="28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971640" y="1076400"/>
            <a:ext cx="78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final layer of live cells actively transports solutes into their cell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3760920" y="2284560"/>
            <a:ext cx="453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olutes then diffuse into xylem vessels to be transported up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984600" y="633888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roots absorb water and miner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rcRect l="0" t="0" r="0" b="4000"/>
          <a:stretch/>
        </p:blipFill>
        <p:spPr>
          <a:xfrm>
            <a:off x="965160" y="1038240"/>
            <a:ext cx="7772400" cy="57913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"/>
          <p:cNvSpPr/>
          <p:nvPr/>
        </p:nvSpPr>
        <p:spPr>
          <a:xfrm>
            <a:off x="4195800" y="1052640"/>
            <a:ext cx="4479840" cy="28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7364520" y="2475000"/>
            <a:ext cx="968400" cy="28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971640" y="1076400"/>
            <a:ext cx="78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final layer of live cells actively transports solutes into their cell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3760920" y="2284560"/>
            <a:ext cx="453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final layer may be an endodermal cell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0"/>
          <p:cNvSpPr/>
          <p:nvPr/>
        </p:nvSpPr>
        <p:spPr>
          <a:xfrm rot="17521800">
            <a:off x="5996520" y="3956760"/>
            <a:ext cx="1682640" cy="608040"/>
          </a:xfrm>
          <a:prstGeom prst="leftArrow">
            <a:avLst>
              <a:gd name="adj1" fmla="val 50000"/>
              <a:gd name="adj2" fmla="val 6918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984600" y="633888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roots absorb water and miner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rcRect l="0" t="0" r="0" b="4000"/>
          <a:stretch/>
        </p:blipFill>
        <p:spPr>
          <a:xfrm>
            <a:off x="965160" y="1038240"/>
            <a:ext cx="7772400" cy="579132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5"/>
          <p:cNvSpPr/>
          <p:nvPr/>
        </p:nvSpPr>
        <p:spPr>
          <a:xfrm>
            <a:off x="4195800" y="1052640"/>
            <a:ext cx="4479840" cy="28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7364520" y="2475000"/>
            <a:ext cx="968400" cy="28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971640" y="1076400"/>
            <a:ext cx="78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final layer of live cells actively transports solutes into their cell wal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4213080" y="2284560"/>
            <a:ext cx="45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r a cell of the pericycle (outermost layer of ste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9"/>
          <p:cNvSpPr/>
          <p:nvPr/>
        </p:nvSpPr>
        <p:spPr>
          <a:xfrm rot="2490000">
            <a:off x="6335280" y="5838480"/>
            <a:ext cx="1683000" cy="608040"/>
          </a:xfrm>
          <a:prstGeom prst="leftArrow">
            <a:avLst>
              <a:gd name="adj1" fmla="val 50000"/>
              <a:gd name="adj2" fmla="val 69198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984600" y="633888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roots absorb water and miner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" descr=""/>
          <p:cNvPicPr/>
          <p:nvPr/>
        </p:nvPicPr>
        <p:blipFill>
          <a:blip r:embed="rId1"/>
          <a:srcRect l="0" t="12912" r="0" b="13535"/>
          <a:stretch/>
        </p:blipFill>
        <p:spPr>
          <a:xfrm>
            <a:off x="0" y="979560"/>
            <a:ext cx="9136080" cy="50464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7"/>
          <p:cNvSpPr/>
          <p:nvPr/>
        </p:nvSpPr>
        <p:spPr>
          <a:xfrm>
            <a:off x="111240" y="6060960"/>
            <a:ext cx="88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 In this figure the pericycle is dra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a continuous layer of cel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roots absorb water and miner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196920" y="801720"/>
            <a:ext cx="8642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ycorrhizal mutualism (fungus + ro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FG23_20a"/>
          <p:cNvPicPr/>
          <p:nvPr/>
        </p:nvPicPr>
        <p:blipFill>
          <a:blip r:embed="rId1"/>
          <a:srcRect l="2400" t="24750" r="3000" b="24750"/>
          <a:stretch/>
        </p:blipFill>
        <p:spPr>
          <a:xfrm>
            <a:off x="617400" y="3301920"/>
            <a:ext cx="4619880" cy="32878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FG23_20b"/>
          <p:cNvPicPr/>
          <p:nvPr/>
        </p:nvPicPr>
        <p:blipFill>
          <a:blip r:embed="rId2"/>
          <a:srcRect l="18450" t="1200" r="18450" b="1200"/>
          <a:stretch/>
        </p:blipFill>
        <p:spPr>
          <a:xfrm>
            <a:off x="5535720" y="3191040"/>
            <a:ext cx="3058920" cy="35496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8"/>
          <p:cNvSpPr/>
          <p:nvPr/>
        </p:nvSpPr>
        <p:spPr>
          <a:xfrm>
            <a:off x="5554440" y="5784840"/>
            <a:ext cx="1195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o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un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6872040" y="5786280"/>
            <a:ext cx="1195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ith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un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198360" y="1517760"/>
            <a:ext cx="8642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gus helps plant obtain water and minerals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, 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t feeds sugars to the fun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roots absorb water and miner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112680" y="614520"/>
            <a:ext cx="874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species (including many legumes) have root nodules that house N-fixing bacteri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FG23_21"/>
          <p:cNvPicPr/>
          <p:nvPr/>
        </p:nvPicPr>
        <p:blipFill>
          <a:blip r:embed="rId1"/>
          <a:srcRect l="0" t="12000" r="0" b="15600"/>
          <a:stretch/>
        </p:blipFill>
        <p:spPr>
          <a:xfrm>
            <a:off x="1371600" y="3382920"/>
            <a:ext cx="6400800" cy="34750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7"/>
          <p:cNvSpPr/>
          <p:nvPr/>
        </p:nvSpPr>
        <p:spPr>
          <a:xfrm>
            <a:off x="114480" y="1552680"/>
            <a:ext cx="874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teria convert 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mmonium), providing plant with fixed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t feeds sugars to the bacter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xylem transport xyl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1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3" descr=""/>
          <p:cNvPicPr/>
          <p:nvPr/>
        </p:nvPicPr>
        <p:blipFill>
          <a:blip r:embed="rId1"/>
          <a:srcRect l="21658" t="0" r="9557" b="59005"/>
          <a:stretch/>
        </p:blipFill>
        <p:spPr>
          <a:xfrm>
            <a:off x="2286000" y="2362320"/>
            <a:ext cx="4495680" cy="34131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4"/>
          <p:cNvSpPr/>
          <p:nvPr/>
        </p:nvSpPr>
        <p:spPr>
          <a:xfrm>
            <a:off x="0" y="8366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ell wall helps maintain a cell’s shape, but the plasma membrane regulates the traffic of molecules into and out of a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2362320" y="2438280"/>
            <a:ext cx="2895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7459920" y="6261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xylem transport xyl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84320" y="806400"/>
            <a:ext cx="3095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 some species of trees the process moves water and nutr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&gt; 100 m upward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rcRect l="0" t="0" r="0" b="6003"/>
          <a:stretch/>
        </p:blipFill>
        <p:spPr>
          <a:xfrm>
            <a:off x="3330720" y="609480"/>
            <a:ext cx="5805360" cy="62485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6"/>
          <p:cNvSpPr/>
          <p:nvPr/>
        </p:nvSpPr>
        <p:spPr>
          <a:xfrm>
            <a:off x="3389400" y="968400"/>
            <a:ext cx="1214280" cy="583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6885000" y="614520"/>
            <a:ext cx="2259000" cy="62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6483240" y="666720"/>
            <a:ext cx="1420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6105600" y="4038480"/>
            <a:ext cx="1420560" cy="489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6165720" y="3944880"/>
            <a:ext cx="1420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6207120" y="3867120"/>
            <a:ext cx="1420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6616800" y="3595680"/>
            <a:ext cx="142056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3"/>
          <p:cNvSpPr/>
          <p:nvPr/>
        </p:nvSpPr>
        <p:spPr>
          <a:xfrm>
            <a:off x="6472080" y="3746520"/>
            <a:ext cx="1420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 rot="19495800">
            <a:off x="6227640" y="3708000"/>
            <a:ext cx="652680" cy="12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5"/>
          <p:cNvSpPr/>
          <p:nvPr/>
        </p:nvSpPr>
        <p:spPr>
          <a:xfrm>
            <a:off x="6748560" y="5327640"/>
            <a:ext cx="142056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1564200" y="62085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xylem transport xyl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84320" y="806400"/>
            <a:ext cx="309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arly all of the energy to drive the process comes from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rcRect l="0" t="0" r="0" b="6003"/>
          <a:stretch/>
        </p:blipFill>
        <p:spPr>
          <a:xfrm>
            <a:off x="3330720" y="609480"/>
            <a:ext cx="5805360" cy="62485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6"/>
          <p:cNvSpPr/>
          <p:nvPr/>
        </p:nvSpPr>
        <p:spPr>
          <a:xfrm>
            <a:off x="3389400" y="968400"/>
            <a:ext cx="1214280" cy="583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885000" y="614520"/>
            <a:ext cx="2259000" cy="62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6483240" y="666720"/>
            <a:ext cx="1420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6105600" y="4038480"/>
            <a:ext cx="1420560" cy="489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6165720" y="3944880"/>
            <a:ext cx="1420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6207120" y="3867120"/>
            <a:ext cx="1420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6616800" y="3595680"/>
            <a:ext cx="142056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6472080" y="3746520"/>
            <a:ext cx="1420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4"/>
          <p:cNvSpPr/>
          <p:nvPr/>
        </p:nvSpPr>
        <p:spPr>
          <a:xfrm rot="19495800">
            <a:off x="6227640" y="3708000"/>
            <a:ext cx="652680" cy="12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5"/>
          <p:cNvSpPr/>
          <p:nvPr/>
        </p:nvSpPr>
        <p:spPr>
          <a:xfrm>
            <a:off x="6748560" y="5327640"/>
            <a:ext cx="142056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7853400" y="698400"/>
            <a:ext cx="109044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7"/>
          <p:cNvSpPr/>
          <p:nvPr/>
        </p:nvSpPr>
        <p:spPr>
          <a:xfrm>
            <a:off x="185760" y="3252960"/>
            <a:ext cx="309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broken chains of water molecules (held together by cohe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-bonds) fill xylem vess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8"/>
          <p:cNvSpPr/>
          <p:nvPr/>
        </p:nvSpPr>
        <p:spPr>
          <a:xfrm>
            <a:off x="6993000" y="2430360"/>
            <a:ext cx="2043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vapor-ation at the top pulls water up from the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1564200" y="62085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xylem transport xyl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8" descr=""/>
          <p:cNvPicPr/>
          <p:nvPr/>
        </p:nvPicPr>
        <p:blipFill>
          <a:blip r:embed="rId1"/>
          <a:srcRect l="0" t="0" r="0" b="4762"/>
          <a:stretch/>
        </p:blipFill>
        <p:spPr>
          <a:xfrm>
            <a:off x="196920" y="1920960"/>
            <a:ext cx="7734240" cy="464004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0"/>
          <p:cNvSpPr/>
          <p:nvPr/>
        </p:nvSpPr>
        <p:spPr>
          <a:xfrm>
            <a:off x="252360" y="768240"/>
            <a:ext cx="838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evaporation of water out of leaves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s called tran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5370480" y="1859040"/>
            <a:ext cx="2773440" cy="4771800"/>
          </a:xfrm>
          <a:prstGeom prst="rect">
            <a:avLst/>
          </a:prstGeom>
          <a:solidFill>
            <a:srgbClr val="faebd7"/>
          </a:solidFill>
          <a:ln w="9360">
            <a:solidFill>
              <a:srgbClr val="faeb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2"/>
          <p:cNvSpPr/>
          <p:nvPr/>
        </p:nvSpPr>
        <p:spPr>
          <a:xfrm>
            <a:off x="5099040" y="4433760"/>
            <a:ext cx="268200" cy="1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132480" y="61023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xylem transport xyl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rcRect l="0" t="0" r="0" b="4762"/>
          <a:stretch/>
        </p:blipFill>
        <p:spPr>
          <a:xfrm>
            <a:off x="196920" y="1920960"/>
            <a:ext cx="7734240" cy="46400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5"/>
          <p:cNvSpPr/>
          <p:nvPr/>
        </p:nvSpPr>
        <p:spPr>
          <a:xfrm>
            <a:off x="252360" y="768240"/>
            <a:ext cx="83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ater vapor escapes through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5370480" y="1859040"/>
            <a:ext cx="2773440" cy="4771800"/>
          </a:xfrm>
          <a:prstGeom prst="rect">
            <a:avLst/>
          </a:prstGeom>
          <a:solidFill>
            <a:srgbClr val="faebd7"/>
          </a:solidFill>
          <a:ln w="9360">
            <a:solidFill>
              <a:srgbClr val="faeb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5099040" y="4433760"/>
            <a:ext cx="268200" cy="1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" descr=""/>
          <p:cNvPicPr/>
          <p:nvPr/>
        </p:nvPicPr>
        <p:blipFill>
          <a:blip r:embed="rId2"/>
          <a:stretch/>
        </p:blipFill>
        <p:spPr>
          <a:xfrm>
            <a:off x="5589720" y="1978200"/>
            <a:ext cx="2235240" cy="45720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10"/>
          <p:cNvSpPr/>
          <p:nvPr/>
        </p:nvSpPr>
        <p:spPr>
          <a:xfrm>
            <a:off x="132480" y="61023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6563160" y="609912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xylem transport xyl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4" descr=""/>
          <p:cNvPicPr/>
          <p:nvPr/>
        </p:nvPicPr>
        <p:blipFill>
          <a:blip r:embed="rId1"/>
          <a:srcRect l="0" t="0" r="0" b="6003"/>
          <a:stretch/>
        </p:blipFill>
        <p:spPr>
          <a:xfrm>
            <a:off x="3330720" y="609480"/>
            <a:ext cx="5805360" cy="62485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6"/>
          <p:cNvSpPr/>
          <p:nvPr/>
        </p:nvSpPr>
        <p:spPr>
          <a:xfrm>
            <a:off x="3389400" y="968400"/>
            <a:ext cx="1214280" cy="583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6885000" y="614520"/>
            <a:ext cx="2259000" cy="62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6483240" y="666720"/>
            <a:ext cx="1420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6105600" y="4038480"/>
            <a:ext cx="1420560" cy="489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6165720" y="3944880"/>
            <a:ext cx="1420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6207120" y="3867120"/>
            <a:ext cx="1420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6616800" y="3595680"/>
            <a:ext cx="142056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3"/>
          <p:cNvSpPr/>
          <p:nvPr/>
        </p:nvSpPr>
        <p:spPr>
          <a:xfrm>
            <a:off x="6472080" y="3746520"/>
            <a:ext cx="1420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4"/>
          <p:cNvSpPr/>
          <p:nvPr/>
        </p:nvSpPr>
        <p:spPr>
          <a:xfrm rot="19495800">
            <a:off x="6227640" y="3708000"/>
            <a:ext cx="652680" cy="12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5"/>
          <p:cNvSpPr/>
          <p:nvPr/>
        </p:nvSpPr>
        <p:spPr>
          <a:xfrm>
            <a:off x="6748560" y="5327640"/>
            <a:ext cx="142056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1"/>
          <p:cNvSpPr/>
          <p:nvPr/>
        </p:nvSpPr>
        <p:spPr>
          <a:xfrm>
            <a:off x="184320" y="806400"/>
            <a:ext cx="3095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ranspiration creates a water pressure gra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3"/>
          <p:cNvSpPr/>
          <p:nvPr/>
        </p:nvSpPr>
        <p:spPr>
          <a:xfrm>
            <a:off x="1564200" y="62085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xylem transport xyl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rcRect l="0" t="0" r="0" b="6003"/>
          <a:stretch/>
        </p:blipFill>
        <p:spPr>
          <a:xfrm>
            <a:off x="3330720" y="609480"/>
            <a:ext cx="5805360" cy="624852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5"/>
          <p:cNvSpPr/>
          <p:nvPr/>
        </p:nvSpPr>
        <p:spPr>
          <a:xfrm>
            <a:off x="6885000" y="614520"/>
            <a:ext cx="2259000" cy="62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6483240" y="666720"/>
            <a:ext cx="1420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6105600" y="4038480"/>
            <a:ext cx="1420560" cy="489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6165720" y="3944880"/>
            <a:ext cx="1420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6207120" y="3867120"/>
            <a:ext cx="1420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6616800" y="3595680"/>
            <a:ext cx="142056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6472080" y="3746520"/>
            <a:ext cx="1420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 rot="19495800">
            <a:off x="6227640" y="3708000"/>
            <a:ext cx="652680" cy="12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6748560" y="5327640"/>
            <a:ext cx="142056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4"/>
          <p:cNvSpPr/>
          <p:nvPr/>
        </p:nvSpPr>
        <p:spPr>
          <a:xfrm>
            <a:off x="184320" y="806400"/>
            <a:ext cx="3095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ranspiration creates a water pressure gra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5"/>
          <p:cNvSpPr/>
          <p:nvPr/>
        </p:nvSpPr>
        <p:spPr>
          <a:xfrm>
            <a:off x="185760" y="3316320"/>
            <a:ext cx="30956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ower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Ψ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at the top is the tension that pulls water up from the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6993000" y="1335240"/>
            <a:ext cx="2043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ater flows upward through xylem vessels by bulk flow down the pressure gra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1564200" y="62085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xylem transport xyl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rcRect l="0" t="0" r="0" b="6003"/>
          <a:stretch/>
        </p:blipFill>
        <p:spPr>
          <a:xfrm>
            <a:off x="3330720" y="609480"/>
            <a:ext cx="5805360" cy="62485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19"/>
          <p:cNvSpPr/>
          <p:nvPr/>
        </p:nvSpPr>
        <p:spPr>
          <a:xfrm>
            <a:off x="184320" y="806400"/>
            <a:ext cx="309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Transpiration-Cohesion-Tension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0"/>
          <p:cNvSpPr/>
          <p:nvPr/>
        </p:nvSpPr>
        <p:spPr>
          <a:xfrm>
            <a:off x="1564200" y="62085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0"/>
          <p:cNvSpPr/>
          <p:nvPr/>
        </p:nvSpPr>
        <p:spPr>
          <a:xfrm>
            <a:off x="152280" y="152280"/>
            <a:ext cx="87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plants regulate the transport  of xyl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152280" y="152280"/>
            <a:ext cx="87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plants regulate the transport  of xyl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1690560" y="1162080"/>
            <a:ext cx="6075360" cy="45561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4"/>
          <p:cNvSpPr/>
          <p:nvPr/>
        </p:nvSpPr>
        <p:spPr>
          <a:xfrm>
            <a:off x="2997360" y="68112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0" y="5705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is actively transported into and out of guar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152280" y="152280"/>
            <a:ext cx="87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plants regulate the transport  of xyl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" descr=""/>
          <p:cNvPicPr/>
          <p:nvPr/>
        </p:nvPicPr>
        <p:blipFill>
          <a:blip r:embed="rId1"/>
          <a:stretch/>
        </p:blipFill>
        <p:spPr>
          <a:xfrm>
            <a:off x="1690560" y="1162080"/>
            <a:ext cx="6075360" cy="45561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4"/>
          <p:cNvSpPr/>
          <p:nvPr/>
        </p:nvSpPr>
        <p:spPr>
          <a:xfrm>
            <a:off x="2997360" y="68112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0" y="570564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hen [K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] is high, the amount of 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0 is high,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nd guard cells open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21658" t="0" r="9557" b="59005"/>
          <a:stretch/>
        </p:blipFill>
        <p:spPr>
          <a:xfrm>
            <a:off x="2286000" y="2362320"/>
            <a:ext cx="4495680" cy="3413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0" y="836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lasmodesmata provide cytosolic connections among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2362320" y="2438280"/>
            <a:ext cx="2895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0" y="5881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ytosol = cytoplasm minus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459920" y="6261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2"/>
          <p:cNvSpPr/>
          <p:nvPr/>
        </p:nvSpPr>
        <p:spPr>
          <a:xfrm>
            <a:off x="152280" y="152280"/>
            <a:ext cx="87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plants regulate the transport  of xyl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1690560" y="1162080"/>
            <a:ext cx="6075360" cy="455616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4"/>
          <p:cNvSpPr/>
          <p:nvPr/>
        </p:nvSpPr>
        <p:spPr>
          <a:xfrm>
            <a:off x="2997360" y="68112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0" y="570564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hen [K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] is low, the amount of 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0 is low,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nd guard cells close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152280" y="152280"/>
            <a:ext cx="87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plants regulate the transport  of xyl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1690560" y="1162080"/>
            <a:ext cx="6075360" cy="455616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4"/>
          <p:cNvSpPr/>
          <p:nvPr/>
        </p:nvSpPr>
        <p:spPr>
          <a:xfrm>
            <a:off x="2997360" y="68112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0" y="5705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ight stimulates the uptake of K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by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uard cells, opening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152280" y="152280"/>
            <a:ext cx="87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plants regulate the transport  of xyl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3" descr=""/>
          <p:cNvPicPr/>
          <p:nvPr/>
        </p:nvPicPr>
        <p:blipFill>
          <a:blip r:embed="rId1"/>
          <a:stretch/>
        </p:blipFill>
        <p:spPr>
          <a:xfrm>
            <a:off x="1690560" y="1162080"/>
            <a:ext cx="6075360" cy="455616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4"/>
          <p:cNvSpPr/>
          <p:nvPr/>
        </p:nvSpPr>
        <p:spPr>
          <a:xfrm>
            <a:off x="2997360" y="68112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0" y="570564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ow [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] stimulates the uptake of K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by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uard cells, opening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152280" y="152280"/>
            <a:ext cx="87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 plants regulate the transport  of xyl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1690560" y="1162080"/>
            <a:ext cx="6075360" cy="455616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4"/>
          <p:cNvSpPr/>
          <p:nvPr/>
        </p:nvSpPr>
        <p:spPr>
          <a:xfrm>
            <a:off x="2997360" y="68112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0" y="570564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ow 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 availability inhibits the uptake of K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by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uard cells, closing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phloem transport phlo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phloem transport phlo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152280" y="671400"/>
            <a:ext cx="870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gars manufactured in leaves diffuse to phloem companion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4" descr=""/>
          <p:cNvPicPr/>
          <p:nvPr/>
        </p:nvPicPr>
        <p:blipFill>
          <a:blip r:embed="rId1"/>
          <a:srcRect l="0" t="0" r="0" b="4651"/>
          <a:stretch/>
        </p:blipFill>
        <p:spPr>
          <a:xfrm>
            <a:off x="414360" y="1673280"/>
            <a:ext cx="8381880" cy="515448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6"/>
          <p:cNvSpPr/>
          <p:nvPr/>
        </p:nvSpPr>
        <p:spPr>
          <a:xfrm>
            <a:off x="460440" y="5924520"/>
            <a:ext cx="39996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5430960" y="5931000"/>
            <a:ext cx="3999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5340240" y="2744640"/>
            <a:ext cx="3457800" cy="407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9"/>
          <p:cNvSpPr/>
          <p:nvPr/>
        </p:nvSpPr>
        <p:spPr>
          <a:xfrm>
            <a:off x="4214880" y="3235320"/>
            <a:ext cx="1436760" cy="19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0"/>
          <p:cNvSpPr/>
          <p:nvPr/>
        </p:nvSpPr>
        <p:spPr>
          <a:xfrm rot="558600">
            <a:off x="4165560" y="4663800"/>
            <a:ext cx="476280" cy="552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2789640" y="616572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phloem transport phlo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152280" y="671400"/>
            <a:ext cx="870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mpanion cells actively transport sugars into sieve-tube members (el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rcRect l="0" t="0" r="0" b="4651"/>
          <a:stretch/>
        </p:blipFill>
        <p:spPr>
          <a:xfrm>
            <a:off x="414360" y="1673280"/>
            <a:ext cx="8381880" cy="51544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6"/>
          <p:cNvSpPr/>
          <p:nvPr/>
        </p:nvSpPr>
        <p:spPr>
          <a:xfrm>
            <a:off x="460440" y="5924520"/>
            <a:ext cx="399960" cy="238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5430960" y="5931000"/>
            <a:ext cx="39996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2789640" y="616572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phloem transport phlo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968640" y="611280"/>
            <a:ext cx="5175360" cy="624816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8"/>
          <p:cNvSpPr/>
          <p:nvPr/>
        </p:nvSpPr>
        <p:spPr>
          <a:xfrm>
            <a:off x="184320" y="806400"/>
            <a:ext cx="363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od (sugars) are then translocated from sources to sinks according to the Pressure-Flow The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185760" y="3657600"/>
            <a:ext cx="3633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. At sources, sugars are actively transported into phl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2100960" y="616572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phloem transport phlo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968640" y="611280"/>
            <a:ext cx="5175360" cy="624816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5"/>
          <p:cNvSpPr/>
          <p:nvPr/>
        </p:nvSpPr>
        <p:spPr>
          <a:xfrm>
            <a:off x="184320" y="806400"/>
            <a:ext cx="363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od (sugars) are then translocated from sources to sinks according to the Pressure-Flow The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185760" y="3657600"/>
            <a:ext cx="3633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. Water follows by osmosis from source cells and xyl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187200" y="4937040"/>
            <a:ext cx="363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s creates high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2100960" y="616572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phloem transport phlo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968640" y="611280"/>
            <a:ext cx="5175360" cy="624816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5"/>
          <p:cNvSpPr/>
          <p:nvPr/>
        </p:nvSpPr>
        <p:spPr>
          <a:xfrm>
            <a:off x="184320" y="806400"/>
            <a:ext cx="363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od (sugars) are then translocated from sources to sinks according to the Pressure-Flow The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185760" y="3657600"/>
            <a:ext cx="3633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. At the sink, sugars diffuse out of the phloem and water follows by osmosi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187200" y="536580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s creates low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2100960" y="616572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rcRect l="21658" t="0" r="9557" b="59005"/>
          <a:stretch/>
        </p:blipFill>
        <p:spPr>
          <a:xfrm>
            <a:off x="2286000" y="2362320"/>
            <a:ext cx="4495680" cy="3413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0" y="836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acuoles often account for 90% of a plant cell’s volume, but they are never shared by adjace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2362320" y="2438280"/>
            <a:ext cx="2895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7459920" y="6261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phloem transport phlo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968640" y="611280"/>
            <a:ext cx="5175360" cy="624816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5"/>
          <p:cNvSpPr/>
          <p:nvPr/>
        </p:nvSpPr>
        <p:spPr>
          <a:xfrm>
            <a:off x="184320" y="806400"/>
            <a:ext cx="363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od (sugars) are then translocated from sources to sinks according to the Pressure-Flow The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185760" y="3657600"/>
            <a:ext cx="363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gar solution flows from high to low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2100960" y="616572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phloem transport phlo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968640" y="611280"/>
            <a:ext cx="5175360" cy="624816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5"/>
          <p:cNvSpPr/>
          <p:nvPr/>
        </p:nvSpPr>
        <p:spPr>
          <a:xfrm>
            <a:off x="184320" y="806400"/>
            <a:ext cx="363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od (sugars) are then translocated from sources to sinks according to the Pressure-Flow The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185760" y="3657600"/>
            <a:ext cx="3633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. Water may be taken up by the transpiration stream in the xy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2100960" y="616572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How does phloem transport phloem s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6" descr=""/>
          <p:cNvPicPr/>
          <p:nvPr/>
        </p:nvPicPr>
        <p:blipFill>
          <a:blip r:embed="rId1"/>
          <a:stretch/>
        </p:blipFill>
        <p:spPr>
          <a:xfrm>
            <a:off x="1544760" y="1157400"/>
            <a:ext cx="7543800" cy="565776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7"/>
          <p:cNvSpPr/>
          <p:nvPr/>
        </p:nvSpPr>
        <p:spPr>
          <a:xfrm>
            <a:off x="150840" y="592200"/>
            <a:ext cx="54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essure-Flow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152280" y="152280"/>
            <a:ext cx="87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Not all herbivores chew leav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150840" y="592200"/>
            <a:ext cx="54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ome exploit s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5" descr="Aphid"/>
          <p:cNvPicPr/>
          <p:nvPr/>
        </p:nvPicPr>
        <p:blipFill>
          <a:blip r:embed="rId1"/>
          <a:stretch/>
        </p:blipFill>
        <p:spPr>
          <a:xfrm>
            <a:off x="254160" y="1246320"/>
            <a:ext cx="4624200" cy="42084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aphids"/>
          <p:cNvPicPr/>
          <p:nvPr/>
        </p:nvPicPr>
        <p:blipFill>
          <a:blip r:embed="rId2"/>
          <a:stretch/>
        </p:blipFill>
        <p:spPr>
          <a:xfrm>
            <a:off x="4983120" y="3711600"/>
            <a:ext cx="3924360" cy="294336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7"/>
          <p:cNvSpPr/>
          <p:nvPr/>
        </p:nvSpPr>
        <p:spPr>
          <a:xfrm>
            <a:off x="5152680" y="2571840"/>
            <a:ext cx="3695040" cy="7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, aphids tap sieve-tu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for phloem 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rcRect l="0" t="45997" r="0" b="2998"/>
          <a:stretch/>
        </p:blipFill>
        <p:spPr>
          <a:xfrm>
            <a:off x="1981080" y="2362320"/>
            <a:ext cx="5048280" cy="3278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0" y="836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bstances can move from cell to cell via the symplastic, apoplastic, or transmembrane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2362320" y="2438280"/>
            <a:ext cx="3200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7459920" y="626112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730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olutes tend to diffuse down concentration grad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0" y="1828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assive transport is diffusion across a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0" y="2666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assive transport is generally slow, unless solutes travel through transport proteins in the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0" y="3887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ome transport proteins are selective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0" y="4726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ome selective channels are “gated” – environmental stimuli open or clos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52280" y="152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0" y="730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tive transport requires energy to move solutes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p their concentration or charge gra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1"/>
          <a:srcRect l="0" t="0" r="50002" b="57116"/>
          <a:stretch/>
        </p:blipFill>
        <p:spPr>
          <a:xfrm>
            <a:off x="558720" y="2895480"/>
            <a:ext cx="6222960" cy="28162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0" y="1797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E.g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., proton pumps are very common active transport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609480" y="5257800"/>
            <a:ext cx="2133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0" y="5759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ton pumps create membrane potentials; potential energy can be used to perform cellula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7169400" y="380844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Fig. 36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23:24:56Z</dcterms:created>
  <dc:creator>kharms</dc:creator>
  <dc:description/>
  <dc:language>en-US</dc:language>
  <cp:lastModifiedBy>Lyn Clarkson</cp:lastModifiedBy>
  <dcterms:modified xsi:type="dcterms:W3CDTF">2008-10-28T02:36:27Z</dcterms:modified>
  <cp:revision>113</cp:revision>
  <dc:subject/>
  <dc:title>How do plants acquire carbon, hydrogen, and oxygen?</dc:title>
</cp:coreProperties>
</file>